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067-3DBE-4642-B4EB-E9C348A8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934-F769-41F5-9C0F-5C2E1389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CB8-7700-4F49-B9F5-BACC05C4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FBC-6CD3-4D3A-95A3-DFC0A3FB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2EF9-6C69-46B0-ACFF-7A6E096C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459F-866A-487C-98EE-752DF924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9052-25C6-4D9A-AEBC-524C50C4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E450-BC68-4271-A245-99D2D255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E64C-5B06-4009-8B21-95EB653B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A9FC-7031-49B6-8B6D-8E6DDABD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4F70-E7B6-45AC-8B95-907EDB24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AF1-A0B5-43F9-966C-0B8F4786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5B1F-2162-4BDF-83C6-2152B429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F932-ED20-418B-8CD4-C1C00CF6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5694-221E-45DA-9B91-E6B225F0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4E54-46DB-46D3-B817-EBE86A16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FD0A-CC4C-4ADD-BFC4-68E86507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C3D-8AD1-4A13-B55F-FA531C86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334-57E7-4DC8-A0DA-5A1C1BC0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4B15-E914-4033-B3D0-80883E01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BA8-2105-4068-B2A4-8C984495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B52-3F8C-440A-928A-49F01EDD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BF9-CCFC-4E41-9318-9E95E9C3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AD8-76E1-4572-88BB-2726E6BF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676D-F94F-47C1-91AD-264F386BBC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57DC-A5AB-4F74-8EDB-5A201DF086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yond Story Time: Planning Effective Read-Alou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rianna Trub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ctober 12, 20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ocus of the Researc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d-alouds have been proven to greatly impact student comprehension, vocabulary development, motivation, and engagement with the tex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does a teacher plan an effective read-aloud that contains all of these ideas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dwards-Santoro, Chard, Howard, &amp; Baker (2008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d-alouds must be carefully planned if they are to affect students’ comprehension in a positive way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nd that enhancing read-alouds with comprehension strategies showed improvement in student comprehension, vocabulary knowledge, and retelling skill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ding books to the whole class allowed the teacher to introduce words in a “teacher-centered approach”, so that all students receive the same information about a specific wor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indle (2009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cused her study on vocabulary development during read-aloud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way books are shared with children matters” (p. 203). Effective read-alouds include teacher medi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dents need conceptual knowledge to make connections between new words, their prior experiences, and previously learned words and concepts” (p.205)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rison &amp; Wlodarczyk (2009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ding texts aloud is the single most important activity for building the knowledge required for successful reading” (p. 111)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dy showed that there is a connection between proficient readers and text engagement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cused on strategies that encourage student engagement with the text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w Understanding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ok selection is critical to planning an effective read-alou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acher mediation is key. Asking questions, modeling how to make connections, and facilitating word learning are just a few of the ways teachers can interact with students during a read-alou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commendation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d-alouds take time to pla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more than pulling a book off of the shelf and reading it. Unless, you are strictly reading for enjoymen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th so little time for instruction, a read-aloud can be a great way to teach new ideas to your stud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3:05:08Z</dcterms:created>
  <dc:creator>Miss Bri</dc:creator>
  <dc:description/>
  <dc:language>en-US</dc:language>
  <cp:lastModifiedBy>Miss Bri</cp:lastModifiedBy>
  <dcterms:modified xsi:type="dcterms:W3CDTF">2010-10-12T03:59:45Z</dcterms:modified>
  <cp:revision>7</cp:revision>
  <dc:subject/>
  <dc:title>Beyond Story Time: Planning Effective Read-Alouds</dc:title>
</cp:coreProperties>
</file>